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4259-8724-45C2-8A9E-60743F92741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29CC-FEDA-4289-AF4A-92EEBD10B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4DC4-1565-4680-838C-AC774EB1370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1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E455-92F8-47BE-92A1-8F62FE635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6309A-9284-4C6F-9DEE-36D55A0DA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A8C0F-4178-4416-A7E1-B273D567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CEE053-5007-4371-AC17-76F5E449D3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204AF5-D8AA-42F9-B6FE-77881839A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1F0CFC-3A84-41AB-970C-01E272D44C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75530E-A49A-499B-9C06-62AF40907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4A119-A21D-41F2-BF91-951E3F1AB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07AEA2-7F66-47D7-B511-C9D2DF88D4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2BF4BC-DDAD-4F6B-9FE0-681364007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D72BB8-0293-4DCF-BDE0-D2120BD6D4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BEE451-9B32-4906-9E7E-9CF52856B0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587BEC-3D17-4D0B-BD5B-F6B78AB21D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7984B-1057-46A9-8D14-52312D6CF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5735CE-6864-49FF-BA56-94D0DDCE15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9DF601-EE86-474A-A47C-31C0DAF186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72D619-B167-48B5-82FE-FDDC432F24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CF4B80-25B8-447E-BA96-B3E2A6E391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05EE23-C310-4532-970D-2FF3DE5FC8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862647-71E4-4EF6-A9FD-E635CB86B7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999096-A823-4088-B647-C0F0749107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D4AB37-3D77-46B0-B77B-F22B19994F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E02A9E-70B7-43E6-A8A0-51B7973AAD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EBF4A1-2969-427C-9E9D-0202A68E11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17BB1-0363-4E37-907B-F35F841C7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46DA39-588C-46D3-8902-68EBCC5C376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032E7E-2522-4299-8ACE-7118CB0FCD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204662-60EC-420F-B364-DEFB18F625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4A22E9-D02E-4419-9845-3C5DE227F9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BB2D8E-0DC5-4AE8-A821-6018743168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AAB498-D3A2-4004-92CE-1655684C4C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C62881-4963-42B4-BF72-C535F79F27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3DB9B3-1A5B-4382-82A3-ACDE42DC69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B0C348-805D-422A-A7B9-B64F48E932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E3DB01-148B-41EC-AF86-C9F5C9F709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F4D95-6ABB-463E-B285-7D33394AD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0D49C8-C644-484F-BF9C-948EF05498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81C3AE-84B9-4D65-A1E0-DACD7823AB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F13149-E9D7-42D8-A27E-0ED127F064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401C74-44A4-46A0-AEC9-C309B2DC78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131E08-CBF3-41EB-AED1-1651DBDA03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44FB11-CB61-44B5-8431-5A19413EA1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17302E-B0A8-4ED6-8D95-29E3BCE71B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1AF57B-807E-4E39-9B05-E7204FB3EC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296AEE-FF87-4421-BF57-3975F05616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5DFEC1-1290-49ED-923D-C168A17BA2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61163-E6BE-42D2-896C-6543F8BDD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7C7CA6-5A98-4903-A9EA-791AF15523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33507D-8B05-48C5-9158-BBA1486246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39BCC3-A0E4-48C4-80A5-54DC96D8BC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271147-32D3-464D-BBC2-D54627092A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8D233F-4096-47B5-B93F-9FD689A3BA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63D34-5C70-425F-8A86-28FE5165A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265A7-203D-4057-B50D-A02D67B7D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1F017-C214-43EA-8EDC-4CD929EF3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193BD-60FD-4296-A471-24675D740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0A26-60CF-4DC8-9EA0-4BF8C686D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320E7-8720-4F3A-B779-A50341C7D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A5C01-99FB-4D9F-B071-28E7ED258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6BC9A-1434-4F56-A549-DC0285538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9DDD1-B544-49DE-9811-B03E386C7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11E5A-7433-497D-A2FB-5F32F09E3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4B97D-25A0-4909-AF1E-6B2B6CEFF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835523-5C96-4C45-8C07-1216C05A2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A54A70-D894-49CE-8A9A-C9DF2F9F6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8D18C-37DA-4F57-B48E-BC033856A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34D16-4279-456A-A079-65F18B79D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8FC98-CE62-4F2B-BD07-EB09567D3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0CA5-F5CD-44CD-A295-FC7AB75E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B8B40-73D5-4D35-AB94-BFEA23D10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9BB32-0B6D-4AE7-ACAD-098EEB5C1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F1EC0-B780-4558-8547-CCC8D5C7F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D7732-8BEE-4427-B82E-DF0429CD6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5E9DF-E340-4690-916D-F9CC61DB8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3ACEE-3F89-4FA5-B667-A64E9BBB0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3CF04-0243-447B-AD96-F9F7E56749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F6730E-68D9-45CE-80CD-28C41322B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BA7353-707C-4121-9639-1BC57674E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D366B-61D4-4924-8D1A-1880E9BCB8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ABC6-1C47-4E34-8D39-680A1494B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4BB40-BC21-4EAB-A50E-597E7E3931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DFDE0-EB70-41A6-B173-241A3DEA8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B402D-289D-4666-915C-A07E400E9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47D55-1FFF-4583-9D3F-82F333B8C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C13B4-6F87-419E-BF50-09B4C5290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0E0B3-EEDE-4EB2-B9B8-0DFC8D624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2841C-4FA2-4AF7-8E54-686D928F4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90C1BD-DE17-466F-A56B-86FB789EC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2A688F-E012-4AAA-AB3C-74B21B8E2D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7B62B1-7918-4FA5-80EA-C7955B927E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DB915-A11E-47E5-8744-8566EFCF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F4043-96D9-43B5-A778-1CD77B8D77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53435B-AA4B-4CEC-B64E-5840CCB8B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8CEA4-E631-46D5-8784-0B3A3CF0D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6EA0D-A233-405B-ACF7-638143286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FA6FF-9B00-49AC-81C0-0484B0824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8ADD1-D477-4BAB-8CE3-5B3BD85B5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B55F5-D50A-4DD6-AEE6-C81084A2A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33366-70A7-4161-8012-42B3F54F8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C7EE5-6FC0-490B-874D-12FEE24D8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4B18DC-B2BC-461B-83C8-6D874FA97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557A-6086-4A22-93C7-9B88943EB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3FF1E5-6533-4C38-B5CD-C0F5E4E12C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7D6753-CCFF-4DEB-9A9F-F2E6DCB64A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0C84E1-2360-4C8F-8786-DEF58C0E2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55E357-A45B-43D2-85C7-0EB7C28A48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7DA7D-F776-4591-992A-579A61029B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2D58A4-D5A2-42B1-B5FB-7153B24362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9A03A4-3A8D-4BC4-BD69-4612F9DB1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C0077-5E94-452C-A20A-1453E28AE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07AF5-4723-414D-9F58-DF037425C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2D066-1A45-4D08-8DFD-46EC16E7A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C299E-A4ED-4D27-8BDE-1E1314D97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3A8116-772D-410E-81B6-83C71E10C3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A92310-12A4-4580-83CB-A4BB00590E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D917DC-EBC5-47A9-A58E-9854050456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71EA78-9EF6-4864-B67F-5E411C6900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B95BC-F870-4C6C-ACD1-00CDCA18FC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DB5F4-B424-4745-B5F2-FC726D5DC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7A26A-3C42-4766-89CA-0D70D8794B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61F47E-9AE7-41C8-9890-FF61AE7F4B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C78331-F052-4725-AB42-F72285DDB7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AE1F8-85D3-4DE4-800F-189DD39C5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E346-2DB4-489B-94CB-659CE601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218C5-797E-422E-860D-DAF5388C0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070FF-BBD6-42F1-9A3E-D988F138E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DB3F87-2D2D-48C4-B1EB-4369E8A4D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3CF091-72A6-4676-82FD-1AF9519661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666570-999B-435F-92AE-06CC295858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F3DFF1-6A0B-45B6-BBC3-BF431DF6AD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F4388-FB7E-446E-A557-4E523A4C2F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AE12C-B40D-4E4A-BB6B-35AAF1D3DD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001C4F-4FED-4BFF-A65C-4A101B07F1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CE4301-4987-4D31-9F7D-FB2603290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310E-26E2-4DE4-A369-C3D25720B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32AA03-13D9-4DA9-93B4-A5612061F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4FCE8-4BEE-4FC3-A260-2024F095A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E7490-423C-4BB9-8E20-CCCB3BC2A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652D6-35F4-4A79-B347-87B1E853D5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709382-9ADB-480B-A455-E62FBE459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989961-86AB-433F-8217-6034D68828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9E48BE-6F7C-4FF5-880E-33EED76614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5BF080-22C7-4595-BB90-82C756C33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55173-C81E-4CA7-9928-9A338A755B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DE74B2-8FE5-49B8-847F-CE29586444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8EF7-E585-4C1B-8762-D60C8A433B21}"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4B79-3EF0-4389-A0B1-36EDF9270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B86C-BECC-40A4-9749-6A2B455AB65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86E9-4819-4712-B079-833FB47FC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DE2D-8098-49B1-9B6D-C939A032105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FBC5-586F-4E3E-9065-EDE959507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3395-B6DE-4345-9493-A2F57103AB5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1EA0-8E03-40EF-A2D1-75DC5224F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CEDE-CB30-4654-AC0D-71B7C250CAD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F7B7-2663-4008-B405-1A87BFABF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C063-D3B2-424C-92F8-33BF27924AD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7C4A-E3FC-44C9-BBDD-AE89684CA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6D86-96CF-47C9-ABF6-FE2DA192C7B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52F0-0122-44C8-932F-623862AFB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8DBD-7D7A-437E-B42A-86D32BC7D2D1}"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3302-9BCD-4D43-997E-647E14827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45B3-E360-466C-AA17-A3DF2BDEE7E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3206-5B24-41EE-86BA-A8A41F4CB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D03F-D16B-47B0-A668-BF8FF22DCC8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0C84-F7C3-4019-A03A-E46D18CFA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94DB-9152-4CB5-ABB9-0B31E183C29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B323-E365-4A65-87B8-A03BD43AE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A377-61C4-489D-953C-DD2D64604D0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12C8-4FD7-4361-AE01-C719E64A5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slide24.xml"/><Relationship Id="rId23" Type="http://schemas.openxmlformats.org/officeDocument/2006/relationships/slide" Target=""/><Relationship Id="rId24" Type="http://schemas.openxmlformats.org/officeDocument/2006/relationships/slide" Target="slide26.xml"/><Relationship Id="rId25" Type="http://schemas.openxmlformats.org/officeDocument/2006/relationships/slide" Target=""/><Relationship Id="rId26" Type="http://schemas.openxmlformats.org/officeDocument/2006/relationships/slide" Target="slide28.xml"/><Relationship Id="rId27" Type="http://schemas.openxmlformats.org/officeDocument/2006/relationships/slide" Target=""/><Relationship Id="rId28" Type="http://schemas.openxmlformats.org/officeDocument/2006/relationships/slide" Target="slide30.xml"/><Relationship Id="rId29" Type="http://schemas.openxmlformats.org/officeDocument/2006/relationships/slide" Target=""/><Relationship Id="rId30" Type="http://schemas.openxmlformats.org/officeDocument/2006/relationships/slide" Target="slide32.xml"/><Relationship Id="rId31" Type="http://schemas.openxmlformats.org/officeDocument/2006/relationships/slide" Target="slide34.xml"/><Relationship Id="rId32" Type="http://schemas.openxmlformats.org/officeDocument/2006/relationships/slideLayout" Target="../slideLayouts/slideLayout85.xml"/><Relationship Id="rId3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9"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00 pt</a:t>
            </a:r>
            <a:endParaRPr b="0" lang="en-US" sz="2400" spc="-1" strike="noStrike">
              <a:solidFill>
                <a:srgbClr val="000000"/>
              </a:solidFill>
              <a:latin typeface="Times New Roman"/>
            </a:endParaRPr>
          </a:p>
        </p:txBody>
      </p:sp>
      <p:sp>
        <p:nvSpPr>
          <p:cNvPr id="500"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00 pt</a:t>
            </a:r>
            <a:endParaRPr b="0" lang="en-US" sz="2400" spc="-1" strike="noStrike">
              <a:solidFill>
                <a:srgbClr val="000000"/>
              </a:solidFill>
              <a:latin typeface="Times New Roman"/>
            </a:endParaRPr>
          </a:p>
        </p:txBody>
      </p:sp>
      <p:sp>
        <p:nvSpPr>
          <p:cNvPr id="501"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00 pt</a:t>
            </a:r>
            <a:endParaRPr b="0" lang="en-US" sz="2400" spc="-1" strike="noStrike">
              <a:solidFill>
                <a:srgbClr val="000000"/>
              </a:solidFill>
              <a:latin typeface="Times New Roman"/>
            </a:endParaRPr>
          </a:p>
        </p:txBody>
      </p:sp>
      <p:sp>
        <p:nvSpPr>
          <p:cNvPr id="502"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00pt</a:t>
            </a:r>
            <a:endParaRPr b="0" lang="en-US" sz="2400" spc="-1" strike="noStrike">
              <a:solidFill>
                <a:srgbClr val="000000"/>
              </a:solidFill>
              <a:latin typeface="Times New Roman"/>
            </a:endParaRPr>
          </a:p>
        </p:txBody>
      </p:sp>
      <p:sp>
        <p:nvSpPr>
          <p:cNvPr id="503"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00 pt</a:t>
            </a:r>
            <a:endParaRPr b="0" lang="en-US" sz="2400" spc="-1" strike="noStrike">
              <a:solidFill>
                <a:srgbClr val="000000"/>
              </a:solidFill>
              <a:latin typeface="Times New Roman"/>
            </a:endParaRPr>
          </a:p>
        </p:txBody>
      </p:sp>
      <p:sp>
        <p:nvSpPr>
          <p:cNvPr id="504"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00 pt</a:t>
            </a:r>
            <a:endParaRPr b="0" lang="en-US" sz="2400" spc="-1" strike="noStrike">
              <a:solidFill>
                <a:srgbClr val="000000"/>
              </a:solidFill>
              <a:latin typeface="Times New Roman"/>
            </a:endParaRPr>
          </a:p>
        </p:txBody>
      </p:sp>
      <p:sp>
        <p:nvSpPr>
          <p:cNvPr id="505"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00 pt</a:t>
            </a:r>
            <a:endParaRPr b="0" lang="en-US" sz="2400" spc="-1" strike="noStrike">
              <a:solidFill>
                <a:srgbClr val="000000"/>
              </a:solidFill>
              <a:latin typeface="Times New Roman"/>
            </a:endParaRPr>
          </a:p>
        </p:txBody>
      </p:sp>
      <p:sp>
        <p:nvSpPr>
          <p:cNvPr id="506"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00 pt</a:t>
            </a:r>
            <a:endParaRPr b="0" lang="en-US" sz="2400" spc="-1" strike="noStrike">
              <a:solidFill>
                <a:srgbClr val="000000"/>
              </a:solidFill>
              <a:latin typeface="Times New Roman"/>
            </a:endParaRPr>
          </a:p>
        </p:txBody>
      </p:sp>
      <p:sp>
        <p:nvSpPr>
          <p:cNvPr id="507"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00 pt</a:t>
            </a:r>
            <a:endParaRPr b="0" lang="en-US" sz="2400" spc="-1" strike="noStrike">
              <a:solidFill>
                <a:srgbClr val="000000"/>
              </a:solidFill>
              <a:latin typeface="Times New Roman"/>
            </a:endParaRPr>
          </a:p>
        </p:txBody>
      </p:sp>
      <p:sp>
        <p:nvSpPr>
          <p:cNvPr id="508"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00 pt</a:t>
            </a:r>
            <a:endParaRPr b="0" lang="en-US" sz="2400" spc="-1" strike="noStrike">
              <a:solidFill>
                <a:srgbClr val="000000"/>
              </a:solidFill>
              <a:latin typeface="Times New Roman"/>
            </a:endParaRPr>
          </a:p>
        </p:txBody>
      </p:sp>
      <p:sp>
        <p:nvSpPr>
          <p:cNvPr id="509"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2" action="ppaction://hlinksldjump"/>
              </a:rPr>
              <a:t>200 pt</a:t>
            </a:r>
            <a:endParaRPr b="0" lang="en-US" sz="2400" spc="-1" strike="noStrike">
              <a:solidFill>
                <a:srgbClr val="000000"/>
              </a:solidFill>
              <a:latin typeface="Times New Roman"/>
            </a:endParaRPr>
          </a:p>
        </p:txBody>
      </p:sp>
      <p:sp>
        <p:nvSpPr>
          <p:cNvPr id="510"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4" action="ppaction://hlinksldjump"/>
              </a:rPr>
              <a:t>300 pt</a:t>
            </a:r>
            <a:endParaRPr b="0" lang="en-US" sz="2400" spc="-1" strike="noStrike">
              <a:solidFill>
                <a:srgbClr val="000000"/>
              </a:solidFill>
              <a:latin typeface="Times New Roman"/>
            </a:endParaRPr>
          </a:p>
        </p:txBody>
      </p:sp>
      <p:sp>
        <p:nvSpPr>
          <p:cNvPr id="511"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6" action="ppaction://hlinksldjump"/>
              </a:rPr>
              <a:t>400 pt</a:t>
            </a:r>
            <a:endParaRPr b="0" lang="en-US" sz="2400" spc="-1" strike="noStrike">
              <a:solidFill>
                <a:srgbClr val="000000"/>
              </a:solidFill>
              <a:latin typeface="Times New Roman"/>
            </a:endParaRPr>
          </a:p>
        </p:txBody>
      </p:sp>
      <p:sp>
        <p:nvSpPr>
          <p:cNvPr id="512"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8" action="ppaction://hlinksldjump"/>
              </a:rPr>
              <a:t>500 pt</a:t>
            </a:r>
            <a:endParaRPr b="0" lang="en-US" sz="2400" spc="-1" strike="noStrike">
              <a:solidFill>
                <a:srgbClr val="000000"/>
              </a:solidFill>
              <a:latin typeface="Times New Roman"/>
            </a:endParaRPr>
          </a:p>
        </p:txBody>
      </p:sp>
      <p:sp>
        <p:nvSpPr>
          <p:cNvPr id="513"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0" action="ppaction://hlinksldjump"/>
              </a:rPr>
              <a:t>100 pt</a:t>
            </a:r>
            <a:endParaRPr b="0" lang="en-US" sz="2400" spc="-1" strike="noStrike">
              <a:solidFill>
                <a:srgbClr val="000000"/>
              </a:solidFill>
              <a:latin typeface="Times New Roman"/>
            </a:endParaRPr>
          </a:p>
        </p:txBody>
      </p:sp>
      <p:sp>
        <p:nvSpPr>
          <p:cNvPr id="514"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1" action="ppaction://hlinksldjump"/>
              </a:rPr>
              <a:t>200 pt</a:t>
            </a:r>
            <a:endParaRPr b="0" lang="en-US" sz="2400" spc="-1" strike="noStrike">
              <a:solidFill>
                <a:srgbClr val="000000"/>
              </a:solidFill>
              <a:latin typeface="Times New Roman"/>
            </a:endParaRPr>
          </a:p>
        </p:txBody>
      </p:sp>
      <p:sp>
        <p:nvSpPr>
          <p:cNvPr id="515"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16"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17"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18" name="AutoShape 116"/>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 pt</a:t>
            </a:r>
            <a:endParaRPr b="0" lang="en-US" sz="2400" spc="-1" strike="noStrike">
              <a:solidFill>
                <a:srgbClr val="000000"/>
              </a:solidFill>
              <a:latin typeface="Times New Roman"/>
            </a:endParaRPr>
          </a:p>
        </p:txBody>
      </p:sp>
      <p:sp>
        <p:nvSpPr>
          <p:cNvPr id="519" name="AutoShape 117"/>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 pt</a:t>
            </a:r>
            <a:endParaRPr b="0" lang="en-US" sz="2400" spc="-1" strike="noStrike">
              <a:solidFill>
                <a:srgbClr val="000000"/>
              </a:solidFill>
              <a:latin typeface="Times New Roman"/>
            </a:endParaRPr>
          </a:p>
        </p:txBody>
      </p:sp>
      <p:sp>
        <p:nvSpPr>
          <p:cNvPr id="520" name="AutoShape 118"/>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21" name="AutoShape 119"/>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22" name="AutoShape 120"/>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23"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pt</a:t>
            </a:r>
            <a:endParaRPr b="0" lang="en-US" sz="2400" spc="-1" strike="noStrike">
              <a:solidFill>
                <a:srgbClr val="000000"/>
              </a:solidFill>
              <a:latin typeface="Times New Roman"/>
            </a:endParaRPr>
          </a:p>
        </p:txBody>
      </p:sp>
      <p:sp>
        <p:nvSpPr>
          <p:cNvPr id="524"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obaliza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t>
            </a:r>
            <a:endParaRPr b="0" lang="en-US" sz="2000" spc="-1" strike="noStrike">
              <a:solidFill>
                <a:srgbClr val="000000"/>
              </a:solidFill>
              <a:latin typeface="Times New Roman"/>
            </a:endParaRPr>
          </a:p>
        </p:txBody>
      </p:sp>
      <p:sp>
        <p:nvSpPr>
          <p:cNvPr id="525"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room</a:t>
            </a:r>
            <a:endParaRPr b="0" lang="en-US" sz="2000" spc="-1" strike="noStrike">
              <a:solidFill>
                <a:srgbClr val="000000"/>
              </a:solidFill>
              <a:latin typeface="Times New Roman"/>
            </a:endParaRPr>
          </a:p>
        </p:txBody>
      </p:sp>
      <p:sp>
        <p:nvSpPr>
          <p:cNvPr id="526"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ry</a:t>
            </a:r>
            <a:endParaRPr b="0" lang="en-US" sz="2000" spc="-1" strike="noStrike">
              <a:solidFill>
                <a:srgbClr val="000000"/>
              </a:solidFill>
              <a:latin typeface="Times New Roman"/>
            </a:endParaRPr>
          </a:p>
        </p:txBody>
      </p:sp>
      <p:sp>
        <p:nvSpPr>
          <p:cNvPr id="527"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s &amp; Cons</a:t>
            </a:r>
            <a:endParaRPr b="0" lang="en-US" sz="2000" spc="-1" strike="noStrike">
              <a:solidFill>
                <a:srgbClr val="000000"/>
              </a:solidFill>
              <a:latin typeface="Times New Roman"/>
            </a:endParaRPr>
          </a:p>
        </p:txBody>
      </p:sp>
      <p:sp>
        <p:nvSpPr>
          <p:cNvPr id="528"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nguage is the most popular in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ine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glish</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panish</a:t>
            </a: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6"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is used in 75% of the world’s 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60% of the world’s radio  programs are in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90% of all Internet traffic is using English (Kearney, 2006).  While we debate the idea of English as a national language, the  rest of the world uses English as a unifying language.</a:t>
            </a:r>
            <a:endParaRPr b="0" lang="en-US" sz="28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70160"/>
            <a:ext cx="6248160" cy="58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9" name="TextBox 5"/>
          <p:cNvSpPr/>
          <p:nvPr/>
        </p:nvSpPr>
        <p:spPr>
          <a:xfrm>
            <a:off x="838080" y="13716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Milliron (2007), the top three things that students will need to “live well and free” (p. 34) in a globalized world a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harisma, and capital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reativity, and courage</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ommon sense, and confidence </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3" name="TextBox 5"/>
          <p:cNvSpPr/>
          <p:nvPr/>
        </p:nvSpPr>
        <p:spPr>
          <a:xfrm>
            <a:off x="609480" y="25146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itical thinking, creativity, and courage </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5" name="Text Box 3"/>
          <p:cNvSpPr/>
          <p:nvPr/>
        </p:nvSpPr>
        <p:spPr>
          <a:xfrm>
            <a:off x="380880" y="914400"/>
            <a:ext cx="82296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that “most of the world’s governments discuss similar educational agendas that include investing in education to develop” (p. 332)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highly intelligent and self-reliant  citize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uture generations focused on eradicating poverty and illiteracy </a:t>
            </a: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9" name="Text Box 5"/>
          <p:cNvSpPr/>
          <p:nvPr/>
        </p:nvSpPr>
        <p:spPr>
          <a:xfrm>
            <a:off x="685800" y="1905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 </a:t>
            </a: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2" name="Text Box 4"/>
          <p:cNvSpPr/>
          <p:nvPr/>
        </p:nvSpPr>
        <p:spPr>
          <a:xfrm>
            <a:off x="838080" y="1143000"/>
            <a:ext cx="784872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lists some of the major influences on the globalization of education (p. 332). Which of the following is NOT a part of that li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World Ban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United Nation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6" name="Text Box 5"/>
          <p:cNvSpPr/>
          <p:nvPr/>
        </p:nvSpPr>
        <p:spPr>
          <a:xfrm>
            <a:off x="1066680" y="167652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8" name="Text Box 3"/>
          <p:cNvSpPr/>
          <p:nvPr/>
        </p:nvSpPr>
        <p:spPr>
          <a:xfrm>
            <a:off x="457200" y="1066680"/>
            <a:ext cx="8458200" cy="570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Laureate Education Corporation (cited in Spring, 2008), the “global market for for-profit higher education is increasing,” (p. 348) in part, because of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 expansion of the upper cla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lack of time for working adults to sit in a classroo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2" name="Text Box 5"/>
          <p:cNvSpPr/>
          <p:nvPr/>
        </p:nvSpPr>
        <p:spPr>
          <a:xfrm>
            <a:off x="53352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global expansion of the middle class, the need for educated human capital, and “most important,” the difficulties faced by governments in financing public higher educ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0"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1" name="Text Box 4"/>
          <p:cNvSpPr/>
          <p:nvPr/>
        </p:nvSpPr>
        <p:spPr>
          <a:xfrm>
            <a:off x="1676520" y="5335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of edu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buzzword depicting Wester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a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olicies and outlooks that ar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wi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 world marketplace</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5" name="Text Box 4"/>
          <p:cNvSpPr/>
          <p:nvPr/>
        </p:nvSpPr>
        <p:spPr>
          <a:xfrm>
            <a:off x="304920" y="1066680"/>
            <a:ext cx="86868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neoliberalism” (p. 343) is a global discourse in which school reforms are designed to ______________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ncrease multicultural education with a focus on tolerating diver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ight globalization because of inequitable learning contexts of poorer countr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6"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9" name="Text Box 5"/>
          <p:cNvSpPr/>
          <p:nvPr/>
        </p:nvSpPr>
        <p:spPr>
          <a:xfrm>
            <a:off x="533520" y="129528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1" name="Text Box 3"/>
          <p:cNvSpPr/>
          <p:nvPr/>
        </p:nvSpPr>
        <p:spPr>
          <a:xfrm>
            <a:off x="304920" y="762120"/>
            <a:ext cx="8458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etus for the enforcement of NCLB can be traced to two sources. One concerns over equity, and the other i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tting funds for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ternational competi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ive students more schoolwork</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5" name="Text Box 5"/>
          <p:cNvSpPr/>
          <p:nvPr/>
        </p:nvSpPr>
        <p:spPr>
          <a:xfrm>
            <a:off x="228600" y="228600"/>
            <a:ext cx="8686800" cy="2835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The concern over international competition has been prompted by both unfavorable comparisons of U.S. students with those in other developed countries and the rapid economic growth of Asian nations, which have often been blamed for job losses and the surging U.S. trade deficit. </a:t>
            </a:r>
            <a:endParaRPr b="0" lang="en-US" sz="3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8" name="Text Box 4"/>
          <p:cNvSpPr/>
          <p:nvPr/>
        </p:nvSpPr>
        <p:spPr>
          <a:xfrm>
            <a:off x="533520" y="1219320"/>
            <a:ext cx="8229600" cy="37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we teach to truly enhance global competitivene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ing skil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subject knowledg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reativit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2" name="Text Box 5"/>
          <p:cNvSpPr/>
          <p:nvPr/>
        </p:nvSpPr>
        <p:spPr>
          <a:xfrm>
            <a:off x="0" y="152280"/>
            <a:ext cx="91440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Creativity has led to many innovations in science and technology, literature, music, and art. Over the past 150 years, the United States has been the world leader in scientific innovations that have powered economic growth at home and around the world. But the United States has been troubled by the “achievement gap” revealed by international comparison tests. So we cannot afford to risk losing the position of the world’s leading hub for scientific and technological innovations in exchange for better scores. </a:t>
            </a:r>
            <a:endParaRPr b="0" lang="en-US" sz="3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4" name="Text Box 3"/>
          <p:cNvSpPr/>
          <p:nvPr/>
        </p:nvSpPr>
        <p:spPr>
          <a:xfrm>
            <a:off x="228600" y="152280"/>
            <a:ext cx="8763120" cy="566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tr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merican children spend more time in academic activities than Asian children do in terms of hours spent at school each day and days spent in school each year.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during the early months of elementary school to teach children to think of themselves as a group and to be constantly aware of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American parents generally are less satisfied with their children’s academic performance and their school than do mothers in Asi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8" name="Text Box 5"/>
          <p:cNvSpPr/>
          <p:nvPr/>
        </p:nvSpPr>
        <p:spPr>
          <a:xfrm>
            <a:off x="0" y="533520"/>
            <a:ext cx="91440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to teach children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be creative is to be different. Florida (2002) found that, in general, tolerance of deviation from tradition and the norm results in greater creativity. In individualist cultures such as the United States, creativity is respected and valued; in collectivist cultures, the emphasis is on continuity and tradition (Sawyer, 2006, as cited in Zhao, 2007). Moreover, American parents’ broader definition of success and the emphasis on internal standards of success may not lead to high test scores or good grades, but they do help to preserve and protect individuality and creativity.</a:t>
            </a:r>
            <a:endParaRPr b="0" lang="en-US" sz="3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1" name="Text Box 4"/>
          <p:cNvSpPr/>
          <p:nvPr/>
        </p:nvSpPr>
        <p:spPr>
          <a:xfrm>
            <a:off x="533520" y="114300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ntry is the largest exporter of goods and servic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e United Sta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Jap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hina</a:t>
            </a: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5" name="Text Box 5"/>
          <p:cNvSpPr/>
          <p:nvPr/>
        </p:nvSpPr>
        <p:spPr>
          <a:xfrm>
            <a:off x="457200" y="762120"/>
            <a:ext cx="815328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The United States -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erican schools are not adequately preparing students to develop global knowledge and skills. According to the Committee for Economic Development (2006, 14, as cited in Zhao, 2007), “Many American students lack sufficient knowledge about other world regions, languages and cultures, and as a result are likely to be unprepared to compete and lead in a global work environment.” Furthermore, most young Americans lack geographic knowledge or an understanding of how the United States fits into the world. </a:t>
            </a:r>
            <a:endParaRPr b="0" lang="en-US" sz="3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4"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5"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6"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7" name="Rectangle 3"/>
          <p:cNvSpPr/>
          <p:nvPr/>
        </p:nvSpPr>
        <p:spPr>
          <a:xfrm>
            <a:off x="53352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olicies and outlooks that are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mote world wide solidarity, policies will orient individuals in social ways and open reflective values for worldwide solidarity. (Scheunpfug &amp; Asbrand,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7" name="Text Box 3"/>
          <p:cNvSpPr/>
          <p:nvPr/>
        </p:nvSpPr>
        <p:spPr>
          <a:xfrm>
            <a:off x="533520" y="914400"/>
            <a:ext cx="76197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educate Americans to become valuable and indispensable contributors to the integrated and interdependent global economy, what should we refrain from do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velop international partnership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gage in teacher and student exchanges. </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1" name="Text Box 5"/>
          <p:cNvSpPr/>
          <p:nvPr/>
        </p:nvSpPr>
        <p:spPr>
          <a:xfrm>
            <a:off x="228600" y="914400"/>
            <a:ext cx="86868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eed to reconfigure their curricula, develop or adapt a curriculum framework, identity teaching materials, recruit or retrain professional staff in international education and foreign languages, organize international experiences for students, and offer courses in these areas. Moreover, we must help children develop their multiple intelligences that will fit in the large, integrated, global supply chain of talents. </a:t>
            </a: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4" name="Text Box 5"/>
          <p:cNvSpPr/>
          <p:nvPr/>
        </p:nvSpPr>
        <p:spPr>
          <a:xfrm>
            <a:off x="380880" y="762120"/>
            <a:ext cx="84582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a benefit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International Understanding</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the dominant cultures and values of some advanced area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cultural diversity across countries and regions. </a:t>
            </a: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8" name="Text Box 5"/>
          <p:cNvSpPr/>
          <p:nvPr/>
        </p:nvSpPr>
        <p:spPr>
          <a:xfrm>
            <a:off x="762120" y="838080"/>
            <a:ext cx="7086600" cy="49892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romoting the dominant cultures and values of some advanced area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dvantages to globalization may include… promoting international understanding, collaboration, harmony and acceptance of cultural diversity across countries and regions.” (Cheng, 2004. p. 8”</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0" name="Text Box 3"/>
          <p:cNvSpPr/>
          <p:nvPr/>
        </p:nvSpPr>
        <p:spPr>
          <a:xfrm>
            <a:off x="1447920" y="1523880"/>
            <a:ext cx="609588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considered an obstacle to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egisl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Access in developing countrie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4" name="Text Box 5"/>
          <p:cNvSpPr/>
          <p:nvPr/>
        </p:nvSpPr>
        <p:spPr>
          <a:xfrm>
            <a:off x="152280" y="304920"/>
            <a:ext cx="8763120" cy="5751720"/>
          </a:xfrm>
          <a:prstGeom prst="rect">
            <a:avLst/>
          </a:prstGeom>
          <a:noFill/>
          <a:ln w="0">
            <a:noFill/>
          </a:ln>
        </p:spPr>
        <p:style>
          <a:lnRef idx="0"/>
          <a:fillRef idx="0"/>
          <a:effectRef idx="0"/>
          <a:fontRef idx="minor"/>
        </p:style>
        <p:txBody>
          <a:bodyPr lIns="90000" rIns="90000" tIns="46800" bIns="46800" anchor="t">
            <a:spAutoFit/>
          </a:bodyPr>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Internet Access in developing countries</a:t>
            </a:r>
            <a:endParaRPr b="0" lang="en-US" sz="3200" spc="-1" strike="noStrike">
              <a:solidFill>
                <a:srgbClr val="000000"/>
              </a:solidFill>
              <a:latin typeface="Times New Roman"/>
            </a:endParaRPr>
          </a:p>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iá Hrabinská (2000) lists 4 obstacles to globalization of education:</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ng Legislation or Legislation that is Overly Restrictive</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tacles of an Ethical Character</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 Level of Incomparability of Higher Education Systems</a:t>
            </a: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6"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7" name="Text Box 4"/>
          <p:cNvSpPr/>
          <p:nvPr/>
        </p:nvSpPr>
        <p:spPr>
          <a:xfrm>
            <a:off x="533520" y="380880"/>
            <a:ext cx="8153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negative aspect of globaliz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other advanc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influence on advanced countries. </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1" name="Text Box 5"/>
          <p:cNvSpPr/>
          <p:nvPr/>
        </p:nvSpPr>
        <p:spPr>
          <a:xfrm>
            <a:off x="304920" y="1295280"/>
            <a:ext cx="838188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a:t>
            </a: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3" name="Text Box 3"/>
          <p:cNvSpPr/>
          <p:nvPr/>
        </p:nvSpPr>
        <p:spPr>
          <a:xfrm>
            <a:off x="990720" y="1066680"/>
            <a:ext cx="70866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fear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ffect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4"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7" name="TextBox 6"/>
          <p:cNvSpPr/>
          <p:nvPr/>
        </p:nvSpPr>
        <p:spPr>
          <a:xfrm>
            <a:off x="533520" y="91440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creasing the technology gap between advanced and less-developed count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 explains that one fear is “increasing the technological gaps and digital divides between advanced countries and less-developed countries that are hindering equal opportunities for fair global shar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0"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1" name="Text Box 5"/>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globalization a new id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t became relevant in the 21st centu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explain free enterpri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The Romans did 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Books in the 1960s introduced th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cept</a:t>
            </a: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0"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problem of G.O.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ird world countries don’t have th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teachers are neede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orporate take over, branding, an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ocalization occurs</a:t>
            </a: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rporate take over, branding, and</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ocalization occu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ll be the learning source for distance learning so corporations like Phoenix will lead the way.  Learning will be standardized to fit the world market. Branding will occur leading education to become a captive market for brand managers who will grab the spotlight taking education down the same road as the music, and sports industries (Hoyle, 2008)   </a:t>
            </a:r>
            <a:endParaRPr b="0" lang="en-US" sz="2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Text Box 2"/>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6" name="Text Box 3"/>
          <p:cNvSpPr/>
          <p:nvPr/>
        </p:nvSpPr>
        <p:spPr>
          <a:xfrm>
            <a:off x="685800" y="45720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a shift away from “brain drain” toward the developing phenomenon of “brain _______”?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arm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capes</a:t>
            </a: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7" name="Text Box 2"/>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0" name="Text Box 5"/>
          <p:cNvSpPr/>
          <p:nvPr/>
        </p:nvSpPr>
        <p:spPr>
          <a:xfrm>
            <a:off x="1143000" y="11430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 </a:t>
            </a: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1"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3" name="Text Box 4"/>
          <p:cNvSpPr/>
          <p:nvPr/>
        </p:nvSpPr>
        <p:spPr>
          <a:xfrm>
            <a:off x="380880" y="533520"/>
            <a:ext cx="8382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 UNESCO report regarding Globalization and Education (2005), The United Nations General Assembly declared 2005-2014 as the “Decade of Education for ___________________ (p.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0" lang="en-US" sz="3200" spc="-1" strike="noStrike">
                <a:solidFill>
                  <a:srgbClr val="000000"/>
                </a:solidFill>
                <a:latin typeface="Times New Roman"/>
              </a:rPr>
              <a:t> Intercultural Understand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0" lang="en-US" sz="3200" spc="-1" strike="noStrike">
                <a:solidFill>
                  <a:srgbClr val="000000"/>
                </a:solidFill>
                <a:latin typeface="Times New Roman"/>
              </a:rPr>
              <a:t>. Global Democrac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0" lang="en-US" sz="3200" spc="-1" strike="noStrike">
                <a:solidFill>
                  <a:srgbClr val="000000"/>
                </a:solidFill>
                <a:latin typeface="Times New Roman"/>
              </a:rPr>
              <a:t>. Sustainable Development </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6" name="Text Box 5"/>
          <p:cNvSpPr/>
          <p:nvPr/>
        </p:nvSpPr>
        <p:spPr>
          <a:xfrm>
            <a:off x="1143000" y="1066680"/>
            <a:ext cx="66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ustainable Develop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http://unesdoc.unesco.org/images/0014/001492/149295E.pdf)  </a:t>
            </a: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9" name="Text Box 5"/>
          <p:cNvSpPr/>
          <p:nvPr/>
        </p:nvSpPr>
        <p:spPr>
          <a:xfrm>
            <a:off x="533520" y="457200"/>
            <a:ext cx="8153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ok “New Paradigm for Re-engineering Education,” Cheng (2005) discusses the need for a shift in education toward developing students’ CMI or “contextualized multiple intelligences” within a triplization paradigm involving _________________________ (p. 19)?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globalization, diversification, interconnec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lobalization, commodification, reif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9">
                                            <p:txEl>
                                              <p:pRg st="0" end="0"/>
                                            </p:txEl>
                                          </p:spTgt>
                                        </p:tgtEl>
                                        <p:attrNameLst>
                                          <p:attrName>style.visibility</p:attrName>
                                        </p:attrNameLst>
                                      </p:cBhvr>
                                      <p:to>
                                        <p:strVal val="visible"/>
                                      </p:to>
                                    </p:set>
                                    <p:anim calcmode="lin" valueType="num">
                                      <p:cBhvr additive="base">
                                        <p:cTn id="7"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9">
                                            <p:txEl>
                                              <p:pRg st="1" end="1"/>
                                            </p:txEl>
                                          </p:spTgt>
                                        </p:tgtEl>
                                        <p:attrNameLst>
                                          <p:attrName>style.visibility</p:attrName>
                                        </p:attrNameLst>
                                      </p:cBhvr>
                                      <p:to>
                                        <p:strVal val="visible"/>
                                      </p:to>
                                    </p:set>
                                    <p:anim calcmode="lin" valueType="num">
                                      <p:cBhvr additive="base">
                                        <p:cTn id="13"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79">
                                            <p:txEl>
                                              <p:pRg st="2" end="2"/>
                                            </p:txEl>
                                          </p:spTgt>
                                        </p:tgtEl>
                                        <p:attrNameLst>
                                          <p:attrName>style.visibility</p:attrName>
                                        </p:attrNameLst>
                                      </p:cBhvr>
                                      <p:to>
                                        <p:strVal val="visible"/>
                                      </p:to>
                                    </p:set>
                                    <p:anim calcmode="lin" valueType="num">
                                      <p:cBhvr additive="base">
                                        <p:cTn id="19" dur="5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9">
                                            <p:txEl>
                                              <p:pRg st="3" end="3"/>
                                            </p:txEl>
                                          </p:spTgt>
                                        </p:tgtEl>
                                        <p:attrNameLst>
                                          <p:attrName>style.visibility</p:attrName>
                                        </p:attrNameLst>
                                      </p:cBhvr>
                                      <p:to>
                                        <p:strVal val="visible"/>
                                      </p:to>
                                    </p:set>
                                    <p:anim calcmode="lin" valueType="num">
                                      <p:cBhvr additive="base">
                                        <p:cTn id="25" dur="5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9">
                                            <p:txEl>
                                              <p:pRg st="4" end="4"/>
                                            </p:txEl>
                                          </p:spTgt>
                                        </p:tgtEl>
                                        <p:attrNameLst>
                                          <p:attrName>style.visibility</p:attrName>
                                        </p:attrNameLst>
                                      </p:cBhvr>
                                      <p:to>
                                        <p:strVal val="visible"/>
                                      </p:to>
                                    </p:set>
                                    <p:anim calcmode="lin" valueType="num">
                                      <p:cBhvr additive="base">
                                        <p:cTn id="31" dur="5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79">
                                            <p:txEl>
                                              <p:pRg st="5" end="5"/>
                                            </p:txEl>
                                          </p:spTgt>
                                        </p:tgtEl>
                                        <p:attrNameLst>
                                          <p:attrName>style.visibility</p:attrName>
                                        </p:attrNameLst>
                                      </p:cBhvr>
                                      <p:to>
                                        <p:strVal val="visible"/>
                                      </p:to>
                                    </p:set>
                                    <p:anim calcmode="lin" valueType="num">
                                      <p:cBhvr additive="base">
                                        <p:cTn id="37" dur="5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2" name="Text Box 5"/>
          <p:cNvSpPr/>
          <p:nvPr/>
        </p:nvSpPr>
        <p:spPr>
          <a:xfrm>
            <a:off x="685800" y="1143000"/>
            <a:ext cx="7848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 C. (2005). </a:t>
            </a:r>
            <a:r>
              <a:rPr b="0" i="1" lang="en-US" sz="3200" spc="-1" strike="noStrike">
                <a:solidFill>
                  <a:srgbClr val="000000"/>
                </a:solidFill>
                <a:latin typeface="Times New Roman"/>
              </a:rPr>
              <a:t>New paradigm for engineering education: Glob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ocalization, and individualization.</a:t>
            </a:r>
            <a:r>
              <a:rPr b="0" lang="en-US" sz="3200" spc="-1" strike="noStrike">
                <a:solidFill>
                  <a:srgbClr val="000000"/>
                </a:solidFill>
                <a:latin typeface="Times New Roman"/>
              </a:rPr>
              <a:t> The Netherlands: Springer.  </a:t>
            </a: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5" name="Text Box 4"/>
          <p:cNvSpPr/>
          <p:nvPr/>
        </p:nvSpPr>
        <p:spPr>
          <a:xfrm>
            <a:off x="380880" y="457200"/>
            <a:ext cx="82296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we live in a “knowledge economy where wealth [is] tied to knowledge workers and ultimately educational systems” and involves “technology, human capital, lifelong learning, and the global migration of workers” (p. 337). What does Spring suggest students need to learn in such a knowledge economy?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bility</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conomics </a:t>
            </a: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9" name="Text Box 5"/>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daptability </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6" name="Text Box 5"/>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Books in the 1960s introduced th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mans used the process but in 1960 Marshall McLuhan’s book addressed the newly shared experience of mass media and first expressed the concept of globalization.  It was not recognized until the 1980s when modern societies began to conver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ducation.stateuniversity.com, 200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2" name="Text Box 4"/>
          <p:cNvSpPr/>
          <p:nvPr/>
        </p:nvSpPr>
        <p:spPr>
          <a:xfrm>
            <a:off x="45720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globalized world today, which one of the following can we not depend our national security on? (Q: Xiaol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litary pow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oss-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diplomac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6" name="Text Box 5"/>
          <p:cNvSpPr/>
          <p:nvPr/>
        </p:nvSpPr>
        <p:spPr>
          <a:xfrm>
            <a:off x="304920" y="838080"/>
            <a:ext cx="84582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ational security depends less on military might than on diplomacy, cross-cultural communications, intelligence, and maintaining a positive image across the world. However, American schools do not have sufficient programs to prepare students in foreign languages and cultures, which has had a direct effect on the nation’s security. </a:t>
            </a: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98" name="PlaceHolder 2"/>
          <p:cNvSpPr>
            <a:spLocks noGrp="1"/>
          </p:cNvSpPr>
          <p:nvPr>
            <p:ph/>
          </p:nvPr>
        </p:nvSpPr>
        <p:spPr>
          <a:xfrm rot="16200000">
            <a:off x="1942920" y="-647640"/>
            <a:ext cx="5181840" cy="861048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C. (2004). Fostering Local Knowledge and Human Development in Globalization of Education. </a:t>
            </a:r>
            <a:r>
              <a:rPr b="0" i="1" lang="en-US" sz="3200" spc="-1" strike="noStrike">
                <a:solidFill>
                  <a:srgbClr val="000000"/>
                </a:solidFill>
                <a:latin typeface="Times New Roman"/>
              </a:rPr>
              <a:t>The International Journal of Educational Management, 18(1), 7-2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ization of education-globalization theory, the role of education. Retrieved October 12, 2008 from </a:t>
            </a:r>
            <a:r>
              <a:rPr b="0" lang="en-US" sz="3200" spc="-1" strike="noStrike" u="sng">
                <a:solidFill>
                  <a:srgbClr val="000000"/>
                </a:solidFill>
                <a:uFillTx/>
                <a:latin typeface="Times New Roman"/>
              </a:rPr>
              <a:t>http://educaton.stateuniversity.com/pages/2010/globa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0"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yle, D.  Globalization and the incorporation of education.  Retrieved October 12, 2008 from </a:t>
            </a:r>
            <a:r>
              <a:rPr b="0" lang="en-US" sz="3200" spc="-1" strike="noStrike" u="sng">
                <a:solidFill>
                  <a:srgbClr val="000000"/>
                </a:solidFill>
                <a:uFillTx/>
                <a:latin typeface="Times New Roman"/>
              </a:rPr>
              <a:t>http://www.infed.org/biblio/globalization_and_education.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abinská, M. (2000). Transnational Education in the Slovak Republic: Threat or Challenge?. </a:t>
            </a:r>
            <a:r>
              <a:rPr b="0" i="1" lang="en-US" sz="3200" spc="-1" strike="noStrike">
                <a:solidFill>
                  <a:srgbClr val="000000"/>
                </a:solidFill>
                <a:latin typeface="Times New Roman"/>
              </a:rPr>
              <a:t>Higher Education in Europe</a:t>
            </a:r>
            <a:r>
              <a:rPr b="0" lang="en-US" sz="3200" spc="-1" strike="noStrike">
                <a:solidFill>
                  <a:srgbClr val="000000"/>
                </a:solidFill>
                <a:latin typeface="Times New Roman"/>
              </a:rPr>
              <a:t>, XXV(3), 337-39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arney, A. T.  (2006).  Measuring globalization.  </a:t>
            </a:r>
            <a:r>
              <a:rPr b="0" i="1" lang="en-US" sz="3200" spc="-1" strike="noStrike">
                <a:solidFill>
                  <a:srgbClr val="000000"/>
                </a:solidFill>
                <a:latin typeface="Times New Roman"/>
              </a:rPr>
              <a:t>Foreign Policy Magazine</a:t>
            </a:r>
            <a:r>
              <a:rPr b="0" lang="en-US" sz="3200" spc="-1" strike="noStrike">
                <a:solidFill>
                  <a:srgbClr val="000000"/>
                </a:solidFill>
                <a:latin typeface="Times New Roman"/>
              </a:rPr>
              <a:t>, 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2"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rere, P. (2007).  Competing higher education futures in a globalising world. </a:t>
            </a:r>
            <a:r>
              <a:rPr b="0" i="1" lang="en-US" sz="3200" spc="-1" strike="noStrike">
                <a:solidFill>
                  <a:srgbClr val="000000"/>
                </a:solidFill>
                <a:latin typeface="Times New Roman"/>
              </a:rPr>
              <a:t>European Journal of Education, 42</a:t>
            </a:r>
            <a:r>
              <a:rPr b="0" lang="en-US" sz="3200" spc="-1" strike="noStrike">
                <a:solidFill>
                  <a:srgbClr val="000000"/>
                </a:solidFill>
                <a:latin typeface="Times New Roman"/>
              </a:rPr>
              <a:t>(2), 201-2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liron, M. D. (2007, Summer). Transcendence and globalization: Our education and workforce development challenge. </a:t>
            </a:r>
            <a:r>
              <a:rPr b="0" i="1" lang="en-US" sz="3200" spc="-1" strike="noStrike">
                <a:solidFill>
                  <a:srgbClr val="000000"/>
                </a:solidFill>
                <a:latin typeface="Times New Roman"/>
              </a:rPr>
              <a:t>New Directions for Community Colleges, 138</a:t>
            </a:r>
            <a:r>
              <a:rPr b="0" lang="en-US" sz="3200" spc="-1" strike="noStrike">
                <a:solidFill>
                  <a:srgbClr val="000000"/>
                </a:solidFill>
                <a:latin typeface="Times New Roman"/>
              </a:rPr>
              <a:t>, 31-3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4"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Geographic Education Foundation and Roper Public Affairs (2006). </a:t>
            </a:r>
            <a:r>
              <a:rPr b="0" i="1" lang="en-US" sz="3200" spc="-1" strike="noStrike">
                <a:solidFill>
                  <a:srgbClr val="000000"/>
                </a:solidFill>
                <a:latin typeface="Times New Roman"/>
              </a:rPr>
              <a:t>2006 Geographic Literacy Report. </a:t>
            </a:r>
            <a:r>
              <a:rPr b="0" lang="en-US" sz="3200" spc="-1" strike="noStrike">
                <a:solidFill>
                  <a:srgbClr val="000000"/>
                </a:solidFill>
                <a:latin typeface="Times New Roman"/>
              </a:rPr>
              <a:t>Retrieved on October, 10, 2008, fro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http://www.nationalgeographic.com/foundation/pdf/NGSRoper2006Report.pd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unpflug, A. &amp; Asbrand, B.  (2006). Global education and education for sustainability.  </a:t>
            </a:r>
            <a:r>
              <a:rPr b="0" i="1" lang="en-US" sz="3200" spc="-1" strike="noStrike">
                <a:solidFill>
                  <a:srgbClr val="000000"/>
                </a:solidFill>
                <a:latin typeface="Times New Roman"/>
              </a:rPr>
              <a:t>Environmental Education Research</a:t>
            </a:r>
            <a:r>
              <a:rPr b="0" lang="en-US" sz="3200" spc="-1" strike="noStrike">
                <a:solidFill>
                  <a:srgbClr val="000000"/>
                </a:solidFill>
                <a:latin typeface="Times New Roman"/>
              </a:rPr>
              <a:t>, 12 (1), 33-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 </a:t>
            </a:r>
            <a:endParaRPr b="0" lang="en-US" sz="4400" spc="-1" strike="noStrike">
              <a:solidFill>
                <a:srgbClr val="000000"/>
              </a:solidFill>
              <a:latin typeface="Times New Roman"/>
            </a:endParaRPr>
          </a:p>
        </p:txBody>
      </p:sp>
      <p:sp>
        <p:nvSpPr>
          <p:cNvPr id="706" name="PlaceHolder 2"/>
          <p:cNvSpPr>
            <a:spLocks noGrp="1"/>
          </p:cNvSpPr>
          <p:nvPr>
            <p:ph/>
          </p:nvPr>
        </p:nvSpPr>
        <p:spPr>
          <a:xfrm rot="16200000">
            <a:off x="1523880" y="-761760"/>
            <a:ext cx="609588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J. (2008). Research on globalization and education</a:t>
            </a:r>
            <a:r>
              <a:rPr b="0" i="1" lang="en-US" sz="3200" spc="-1" strike="noStrike">
                <a:solidFill>
                  <a:srgbClr val="000000"/>
                </a:solidFill>
                <a:latin typeface="Times New Roman"/>
              </a:rPr>
              <a:t>. Review of Educational Research, 78</a:t>
            </a:r>
            <a:r>
              <a:rPr b="0" lang="en-US" sz="3200" spc="-1" strike="noStrike">
                <a:solidFill>
                  <a:srgbClr val="000000"/>
                </a:solidFill>
                <a:latin typeface="Times New Roman"/>
              </a:rPr>
              <a:t>, 330-36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b, W. (2001).  Globalization and education as a commodity.  Retrieved October 12, 2008 from </a:t>
            </a:r>
            <a:r>
              <a:rPr b="0" lang="en-US" sz="3200" spc="-1" strike="noStrike" u="sng">
                <a:solidFill>
                  <a:srgbClr val="000000"/>
                </a:solidFill>
                <a:uFillTx/>
                <a:latin typeface="Times New Roman"/>
              </a:rPr>
              <a:t>http://www.psc-cuny.org/jcglobalization.ht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hao, Y. (2007). Education in the flat world: Implications of globalization on education. </a:t>
            </a:r>
            <a:r>
              <a:rPr b="0" i="1" lang="en-US" sz="3200" spc="-1" strike="noStrike">
                <a:solidFill>
                  <a:srgbClr val="000000"/>
                </a:solidFill>
                <a:latin typeface="Times New Roman"/>
              </a:rPr>
              <a:t>Edge</a:t>
            </a:r>
            <a:r>
              <a:rPr b="0" lang="en-US" sz="3200" spc="-1" strike="noStrike">
                <a:solidFill>
                  <a:srgbClr val="000000"/>
                </a:solidFill>
                <a:latin typeface="Times New Roman"/>
              </a:rPr>
              <a:t>, 02 (04), 1-2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globalization transform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will not affect educ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ducation will become distance learning</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ducation will only be for the wealthy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3"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ducation will become distance lear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lobalization progresses the spread of democracy occurs.  Education will become more standardized to become a commodified model.  Straight jacket lessons will provide corporate college degrees.  The knowledge from the hearts of teachers will be on CDs creating interchangeable education that can be sold at Walmart.  (Tabb, 2001)   </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5"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the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idea to take over the worl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A way to make other countries stat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7"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0"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heory is associated with Roland Robertson, who views a consciousness of the world by compressing the world into a global set of ideas that creates a unique society (education.stateuniversity.com, 2008). </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8:51:04Z</dcterms:created>
  <dc:creator>Eleanor M. Savko</dc:creator>
  <dc:description/>
  <dc:language>en-US</dc:language>
  <cp:lastModifiedBy>Tyler Wardle</cp:lastModifiedBy>
  <cp:lastPrinted>2008-10-20T23:46:21Z</cp:lastPrinted>
  <dcterms:modified xsi:type="dcterms:W3CDTF">2008-10-27T19:55:36Z</dcterms:modified>
  <cp:revision>50</cp:revision>
  <dc:subject/>
  <dc:title>Blank Jeopardy</dc:title>
</cp:coreProperties>
</file>